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A8E9A-D162-493D-B7B3-ED7AE61D2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AAB03-C392-4CA7-98B8-5676E60A9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EF441-DA69-44F9-8E9A-7CB926A32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8585E-64A6-4E27-9658-A166E5B01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6ECBA-AFDE-4794-8DDB-187C2E116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1D68E-2BBE-4029-96DB-EA3FDFAAC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F1205-1718-4A2F-99AB-646F3AA69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CED58-34E2-4D81-B880-E18A50567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F6DCF-FC46-4C1D-8EB2-1AFA0A738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6C881-CC21-400A-9632-91F8A0589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5414D-B36C-486F-9730-50250C3B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13517-A202-45FF-BAE9-E093C0B9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E21E4-DE6E-44E2-AA0C-4F0B5EDC2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C60F-B7B6-41AD-8C72-60CCE06F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6BE3A-FE71-4ABC-9EFF-B91B11092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FBF63-8FD0-4C5B-BA27-F9C049093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11926-61AA-4B60-9639-701606D32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5073F3D-66EB-4604-A9BE-2726CA8F2A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E1D58B-331D-4364-A62D-8E679FD91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118360-E67B-4C3F-AB5D-8D3D6876F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0015E2-E77B-4219-B0B3-D15C6CC95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FBFBDB-BF17-44A0-9EDD-297434832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6E9D1-86DA-4629-8706-C9342604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394717-BE9A-44F1-9563-48423F091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77B51C-58C9-4F8F-95FF-55E65FB37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467DBB-EFA1-46C0-ADCF-42857C9EE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F0D1F9-F95F-451F-8BBC-54F58EB16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E345B5-CA18-4622-B945-3E0162AD1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AA47B1-B2A6-4E9D-9D08-C509E5B3D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856334-36E9-42C3-936C-438CE27CC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6DD096F-C30B-4E1D-89C5-59CD5DFFAF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1E0B5B-DF10-43EC-9CB5-36ED16433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F20F52-8936-445A-807F-F5080109F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617F-BEE5-4BC5-B930-8AB117010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0E7E16-773A-4F26-9FFC-F9FE975BA6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8EA1B8-8791-4A29-BAC4-7F5721F15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398322-8BB8-434C-99D4-8AE56AA8E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B0F640-202C-4886-87B6-52DAD0E2B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BB5B27-B069-4CF2-8786-8437F5FA3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2947BF-739B-4F2E-868B-F7029FBF1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4C34AB-4C5B-4506-AF03-146AA24E4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A57A3A-7577-4EEB-8B56-E760CBF4CE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6432BF-5976-4F6A-8E81-80E64A0C77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B7B660-46D6-4037-88BE-765236759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886F-F10C-4C27-B042-75479542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7CAD99-16C2-45A7-8C49-7FE950E63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93B259-50BC-4DF0-AB37-BB23F178B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80B98A-66C1-430B-8726-745EB8C8F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FCDF0B-32CF-4CDA-BD8A-3C2E9D140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FDE22E-19A0-41C6-98A6-851A99D82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12E878-8BE3-427C-A479-CC8480AD9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3C2077-7A39-4868-A03F-8691FAF14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68A2AC-BABD-491C-A9E2-A3FE01C72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0CA25D-43FC-42D9-B1EC-2E1C1143B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5AF3FD1-6366-487B-A06C-79D01D63E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47FD-5F6C-41EE-AF3C-7B0DBC7B0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91BAB8-BED5-4BC6-932A-77A1EB0610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43CDC0-D678-434C-B752-277BB96305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D27AF-617F-4175-BAE1-509CA9C4D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A3CFB-3567-4869-871E-248CA77BD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6610F-44C3-47B4-B79F-8C7300E71E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FCED4-1BD8-4290-80DB-DD3D938F1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24239-DDF6-4F44-9B39-B307CD106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4E5B6-4FAC-41D2-AA9E-C1388B3A9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59D33-DF96-4A46-9C14-D408DA252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03F11-E4D0-45E7-93DC-391EA87DF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4B83-06DE-4669-9811-9F0927A2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09511-6094-46B6-9021-457459408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C622B-1ABC-4DEB-A301-53E3497FC4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F5ADA6-9A2D-4C74-9D41-0516B0F1B2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CCFD8D6-8BA9-4633-821E-1A899870D7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A33B61-B0F8-4F03-B6F0-E270FC601A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C5F004-D443-41AE-BF9A-A0764E8AA5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311158-FF52-4330-B267-930142FF1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E3EEBF-5159-4028-BCDB-F4FF29D901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0C8ABB-140B-4C30-BEFA-D99EF09CA5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0D65C75-08FA-4FFD-B049-FE06D973D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AA7CF-0A43-4EBF-A0E9-2A08B93C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AD449C-08D3-4B61-BB7A-B83A26636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65E48A-E4B3-4D21-BFBB-A92A57DE6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A0DDF4-8D48-4A01-BAC5-FF2FF4245F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1843F79-7CCA-49E9-8243-81DC5A991B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8A72B5E-A420-4863-B822-5C3781FC67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925CFF-2923-4E66-A036-C82F3DAE9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2F1CC-503A-4C75-85D3-0AE59D5019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180A57-996D-4631-8344-3EF95170AE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158839-80F6-4EB0-BCBC-C5E717BC6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87C6C6-F830-49DD-8C48-9FFB994B2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55B2C-2B79-4999-8ED5-74F02A657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DFEB0C-E4AB-4BF9-BF04-89F1FD96B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99F5A-013F-408B-B82E-5136FA20A7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44D17-7C00-476E-A919-50121C8B1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CE5A18-61D6-4474-A3A9-F2785125F7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857DD-646E-4859-8246-4C793D09C4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A921F8-2631-4488-AB78-BEBE47409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729DEC-149F-49E0-8F19-5D1AF813F2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3C2F-521C-464A-8FA1-943F636907F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0BC7-35A4-4914-80D4-BC78FA833702}"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1BDF-B147-4A2E-8F36-CC2B76F3A086}"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166C-88AB-4C91-A3AE-A53CC732453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7316-0655-45AB-9797-9DE17ADC0E6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5D7C-B9ED-46C6-9BD6-7FF5154244C0}"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95A8-F8AA-4071-97A0-9779CEB0029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8EB3-01FF-4B54-90F6-E9024D2401F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ntesol.org/forms/ESLProgramGuide.pdf"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ducationworld.com/a_curr/curr047.shtml" TargetMode="External"/><Relationship Id="rId2" Type="http://schemas.openxmlformats.org/officeDocument/2006/relationships/hyperlink" Target="http://www2.sfasu.edu/enlace/modules/Chronology%20of%20Federal%20Law%20Guiding%20ELL%20Policy%20and%20Practice%20from%20TEA.pdf" TargetMode="External"/><Relationship Id="rId3" Type="http://schemas.openxmlformats.org/officeDocument/2006/relationships/hyperlink" Target="http://literacynet.org/esl/policylegis.html"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SL LEGISTLATION</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ELS Language Centers</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Daiva Berzinskas</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Contact Information: daivaberz@gmail.com</a:t>
            </a:r>
            <a:endParaRPr b="0" lang="en-US" sz="1000" spc="-1" strike="noStrike">
              <a:solidFill>
                <a:srgbClr val="ffffff"/>
              </a:solidFill>
              <a:latin typeface="Tw Cen MT"/>
            </a:endParaRPr>
          </a:p>
        </p:txBody>
      </p:sp>
      <p:pic>
        <p:nvPicPr>
          <p:cNvPr id="352" name="Picture 3" descr="C:\Documents and Settings\IELTS\Desktop\wiki\legislation.jpg"/>
          <p:cNvPicPr/>
          <p:nvPr/>
        </p:nvPicPr>
        <p:blipFill>
          <a:blip r:embed="rId1"/>
          <a:stretch/>
        </p:blipFill>
        <p:spPr>
          <a:xfrm>
            <a:off x="7086600" y="4343400"/>
            <a:ext cx="1676520" cy="170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NCLB (2001)</a:t>
            </a:r>
            <a:endParaRPr b="0" lang="en-US" sz="4400" spc="-1" strike="noStrike">
              <a:solidFill>
                <a:srgbClr val="ebddc3"/>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States must provide funding to improve the education of LEP students by providing ESL instruction and meet state academic  standards. </a:t>
            </a:r>
            <a:endParaRPr b="0" lang="en-US" sz="2900" spc="-1" strike="noStrike">
              <a:solidFill>
                <a:srgbClr val="ffffff"/>
              </a:solidFill>
              <a:latin typeface="Tw Cen MT"/>
            </a:endParaRPr>
          </a:p>
          <a:p>
            <a:pPr lvl="1" marL="582120" indent="-2901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8bfbf8"/>
                </a:solidFill>
                <a:latin typeface="Tw Cen MT"/>
              </a:rPr>
              <a:t>Legislation for limited English proficient students is found under Title III of NCLB. </a:t>
            </a:r>
            <a:endParaRPr b="0" lang="en-US" sz="26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glish Language Acquisition Act (part of NCLB)</a:t>
            </a:r>
            <a:endParaRPr b="0" lang="en-US" sz="2900" spc="-1" strike="noStrike">
              <a:solidFill>
                <a:srgbClr val="ffffff"/>
              </a:solidFill>
              <a:latin typeface="Tw Cen MT"/>
            </a:endParaRPr>
          </a:p>
          <a:p>
            <a:pPr lvl="1" marL="582120" indent="-2901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fbf8"/>
                </a:solidFill>
                <a:latin typeface="Tw Cen MT"/>
              </a:rPr>
              <a:t>replaces Bilingual Education Act and requires that </a:t>
            </a:r>
            <a:r>
              <a:rPr b="0" lang="en-US" sz="2600" spc="-1" strike="noStrike">
                <a:solidFill>
                  <a:srgbClr val="8bfbf8"/>
                </a:solidFill>
                <a:latin typeface="Tw Cen MT"/>
              </a:rPr>
              <a:t>	</a:t>
            </a:r>
            <a:r>
              <a:rPr b="0" lang="en-US" sz="2600" spc="-1" strike="noStrike">
                <a:solidFill>
                  <a:srgbClr val="8bfbf8"/>
                </a:solidFill>
                <a:latin typeface="Tw Cen MT"/>
              </a:rPr>
              <a:t>LEP students are tested in English proficiency after three years of living in the U.S. </a:t>
            </a:r>
            <a:r>
              <a:rPr b="1" lang="en-US" sz="2600" spc="-1" strike="noStrike">
                <a:solidFill>
                  <a:srgbClr val="ffffff"/>
                </a:solidFill>
                <a:latin typeface="Tw Cen MT"/>
              </a:rPr>
              <a:t>	</a:t>
            </a:r>
            <a:endParaRPr b="0" lang="en-US" sz="26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376" name="Picture 3" descr="nclb.jpg"/>
          <p:cNvPicPr/>
          <p:nvPr/>
        </p:nvPicPr>
        <p:blipFill>
          <a:blip r:embed="rId1"/>
          <a:stretch/>
        </p:blipFill>
        <p:spPr>
          <a:xfrm>
            <a:off x="4495680" y="152280"/>
            <a:ext cx="1676520" cy="128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ennessee Guidelines for ELLs</a:t>
            </a:r>
            <a:endParaRPr b="0" lang="en-US" sz="4400" spc="-1" strike="noStrike">
              <a:solidFill>
                <a:srgbClr val="ebddc3"/>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TN Civil Rights Act in 1964 </a:t>
            </a:r>
            <a:endParaRPr b="0" lang="en-US" sz="27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Ensures that each district is responsible for implementing own LEP program</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Program must be regularly evaluated</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ESL programs must be endorsed and taught by certified ESL teachers</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If student home schools cannot provide programs, transportation must be provided</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w Cen MT"/>
              </a:rPr>
              <a:t>Plyer v. Doe </a:t>
            </a:r>
            <a:r>
              <a:rPr b="0" lang="en-US" sz="2700" spc="-1" strike="noStrike">
                <a:solidFill>
                  <a:srgbClr val="ffffff"/>
                </a:solidFill>
                <a:latin typeface="Tw Cen MT"/>
              </a:rPr>
              <a:t>implication:</a:t>
            </a:r>
            <a:endParaRPr b="0" lang="en-US" sz="27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chool districts must have policy regardless of immigrant status</a:t>
            </a:r>
            <a:endParaRPr b="0" lang="en-US" sz="1800" spc="-1" strike="noStrike">
              <a:solidFill>
                <a:srgbClr val="ffffff"/>
              </a:solidFill>
              <a:latin typeface="Tw Cen MT"/>
            </a:endParaRPr>
          </a:p>
          <a:p>
            <a:pPr lvl="1" marL="613800" indent="-306000">
              <a:lnSpc>
                <a:spcPct val="8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w Cen MT"/>
              </a:rPr>
              <a:t>Plyler v. Doe 457 U.S. 202.1982.</a:t>
            </a:r>
            <a:endParaRPr b="0" lang="en-US" sz="18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For more information: </a:t>
            </a:r>
            <a:r>
              <a:rPr b="0" lang="en-US" sz="2000" spc="-1" strike="noStrike" u="sng">
                <a:solidFill>
                  <a:srgbClr val="f7b615"/>
                </a:solidFill>
                <a:uFillTx/>
                <a:latin typeface="Tw Cen MT"/>
                <a:hlinkClick r:id="rId1"/>
              </a:rPr>
              <a:t>http://www.tntesol.org/forms/ESLProgramGuide.pdf</a:t>
            </a: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pic>
        <p:nvPicPr>
          <p:cNvPr id="379" name="Picture 3" descr="tn flag.jpg"/>
          <p:cNvPicPr/>
          <p:nvPr/>
        </p:nvPicPr>
        <p:blipFill>
          <a:blip r:embed="rId2"/>
          <a:stretch/>
        </p:blipFill>
        <p:spPr>
          <a:xfrm>
            <a:off x="7315200" y="304920"/>
            <a:ext cx="1362240" cy="81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ESL Resources</a:t>
            </a:r>
            <a:endParaRPr b="0" lang="en-US" sz="4400" spc="-1" strike="noStrike">
              <a:solidFill>
                <a:srgbClr val="ebddc3"/>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Bilingual Education Program</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7b615"/>
                </a:solidFill>
                <a:uFillTx/>
                <a:latin typeface="Tw Cen MT"/>
                <a:hlinkClick r:id="rId1"/>
              </a:rPr>
              <a:t>http://www.educationworld.com/a_curr/curr047.shtml</a:t>
            </a:r>
            <a:endParaRPr b="0" lang="en-US" sz="15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Chronology of Laws Impacting ESL Students </a:t>
            </a:r>
            <a:r>
              <a:rPr b="0" lang="en-US" sz="1600" spc="-1" strike="noStrike" u="sng">
                <a:solidFill>
                  <a:srgbClr val="f7b615"/>
                </a:solidFill>
                <a:uFillTx/>
                <a:latin typeface="Tw Cen MT"/>
                <a:hlinkClick r:id="rId2"/>
              </a:rPr>
              <a:t>http://www2.sfasu.edu/enlace/modules/Chronology%20of%20Federal%20Law%20Guiding%20ELL%20Policy%20and%20Practice%20from%20TEA.pdf</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ESL Policy and Legislation</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7b615"/>
                </a:solidFill>
                <a:uFillTx/>
                <a:latin typeface="Tw Cen MT"/>
                <a:hlinkClick r:id="rId3"/>
              </a:rPr>
              <a:t>http://literacynet.org/esl/policylegis.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Legislation Related to Bilingual Education: </a:t>
            </a:r>
            <a:r>
              <a:rPr b="0" lang="en-US" sz="1600" spc="-1" strike="noStrike">
                <a:solidFill>
                  <a:srgbClr val="ffffff"/>
                </a:solidFill>
                <a:latin typeface="Tw Cen MT"/>
              </a:rPr>
              <a:t>http://www.umich.edu/~ac213/student_projects05/be/legislation.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w Cen MT"/>
              </a:rPr>
              <a:t>TN Department of ESL Resources:</a:t>
            </a:r>
            <a:endParaRPr b="0" lang="en-US" sz="27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w Cen MT"/>
              </a:rPr>
              <a:t>http://www.state.tn.us/education/fedprog/fpeslresources.shtml</a:t>
            </a: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82" name="Picture 3" descr="resources.jpg"/>
          <p:cNvPicPr/>
          <p:nvPr/>
        </p:nvPicPr>
        <p:blipFill>
          <a:blip r:embed="rId4"/>
          <a:stretch/>
        </p:blipFill>
        <p:spPr>
          <a:xfrm>
            <a:off x="5181480" y="228600"/>
            <a:ext cx="116208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eferences</a:t>
            </a:r>
            <a:endParaRPr b="0" lang="en-US" sz="4400" spc="-1" strike="noStrike">
              <a:solidFill>
                <a:srgbClr val="ebddc3"/>
              </a:solidFill>
              <a:latin typeface="Tw Cen MT"/>
            </a:endParaRPr>
          </a:p>
        </p:txBody>
      </p:sp>
      <p:pic>
        <p:nvPicPr>
          <p:cNvPr id="384" name="Content Placeholder 3" descr="refer.jpg"/>
          <p:cNvPicPr/>
          <p:nvPr/>
        </p:nvPicPr>
        <p:blipFill>
          <a:blip r:embed="rId1"/>
          <a:stretch/>
        </p:blipFill>
        <p:spPr>
          <a:xfrm>
            <a:off x="7391520" y="838080"/>
            <a:ext cx="1038240" cy="1038240"/>
          </a:xfrm>
          <a:prstGeom prst="rect">
            <a:avLst/>
          </a:prstGeom>
          <a:ln w="0">
            <a:noFill/>
          </a:ln>
        </p:spPr>
      </p:pic>
      <p:sp>
        <p:nvSpPr>
          <p:cNvPr id="385" name="Rectangle 3"/>
          <p:cNvSpPr/>
          <p:nvPr/>
        </p:nvSpPr>
        <p:spPr>
          <a:xfrm>
            <a:off x="6324480" y="3124080"/>
            <a:ext cx="2514600" cy="3117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TSU HONOR STATEMENT</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is assignment/assessment was solely written by me. In no way have I plagiarized (represented the work of another as my own) or otherwise violated the copyright laws and academic conventions of fair use. I know that violations of this policy may result in my being dismissed from Middle Tennessee State University and / or appropriate legal action being taken against me.</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Daiva Berzinska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19-10</a:t>
            </a:r>
            <a:endParaRPr b="0" lang="en-US" sz="1200" spc="-1" strike="noStrike">
              <a:solidFill>
                <a:srgbClr val="ffffff"/>
              </a:solidFill>
              <a:latin typeface="Arial"/>
            </a:endParaRPr>
          </a:p>
        </p:txBody>
      </p:sp>
      <p:sp>
        <p:nvSpPr>
          <p:cNvPr id="386" name="TextBox 5"/>
          <p:cNvSpPr/>
          <p:nvPr/>
        </p:nvSpPr>
        <p:spPr>
          <a:xfrm>
            <a:off x="152280" y="1600200"/>
            <a:ext cx="6019920" cy="551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ker, K.A. &amp; de Kanter, A.A. (1983). </a:t>
            </a:r>
            <a:r>
              <a:rPr b="0" i="1" lang="en-US" sz="1200" spc="-1" strike="noStrike">
                <a:solidFill>
                  <a:srgbClr val="ffffff"/>
                </a:solidFill>
                <a:latin typeface="Arial"/>
              </a:rPr>
              <a:t>Bilingual Education: A Reappraisal of Federal Policy</a:t>
            </a:r>
            <a:r>
              <a:rPr b="0" lang="en-US" sz="1200" spc="-1" strike="noStrike">
                <a:solidFill>
                  <a:srgbClr val="ffffff"/>
                </a:solidFill>
                <a:latin typeface="Arial"/>
              </a:rPr>
              <a:t>. Retrieved from http://www.stanford.edu/~kenro/LAU/LauRemedies.ht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yond Brown. (n.d.). </a:t>
            </a:r>
            <a:r>
              <a:rPr b="0" i="1" lang="en-US" sz="1200" spc="-1" strike="noStrike">
                <a:solidFill>
                  <a:srgbClr val="ffffff"/>
                </a:solidFill>
                <a:latin typeface="Arial"/>
              </a:rPr>
              <a:t>Summary of Lau vs. Nichols 1974</a:t>
            </a:r>
            <a:r>
              <a:rPr b="0" lang="en-US" sz="1200" spc="-1" strike="noStrike">
                <a:solidFill>
                  <a:srgbClr val="ffffff"/>
                </a:solidFill>
                <a:latin typeface="Arial"/>
              </a:rPr>
              <a:t>. Retrieved from: </a:t>
            </a:r>
            <a:r>
              <a:rPr b="0" lang="en-US" sz="1200" spc="-1" strike="noStrike" u="sng">
                <a:solidFill>
                  <a:srgbClr val="ffffff"/>
                </a:solidFill>
                <a:uFillTx/>
                <a:latin typeface="Arial"/>
              </a:rPr>
              <a:t>http://www.pbs.org/beyondbrown/brownpdfs/launichols.pdf</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eivers, L. ( n.d.). Tennessee English as a Second Language Program Guide. Retrieved from :http://www.tntesol.org/forms/ESLProgramGuide.pdf</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S. Department of Education ( 2005). Education and Title VI. Retrieved from http://www2.ed.gov/about/offices/list/ocr/religious-rights2004.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U.S. Legislation for Second Language Learners</a:t>
            </a:r>
            <a:endParaRPr b="0" lang="en-US" sz="4000" spc="-1" strike="noStrike">
              <a:solidFill>
                <a:srgbClr val="ebddc3"/>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1964 --- Civil Rights Act 1964 (Title VI)</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Bilingual Education Acts of 1968 and 1974 (Title VII)</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1974 --- </a:t>
            </a:r>
            <a:r>
              <a:rPr b="0" i="1" lang="en-US" sz="2900" spc="-1" strike="noStrike">
                <a:solidFill>
                  <a:srgbClr val="ffffff"/>
                </a:solidFill>
                <a:latin typeface="Tw Cen MT"/>
              </a:rPr>
              <a:t>Lua v. Nichols</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1974 --- Equal Educational Opportunities Act (EEOA)</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1982 --- </a:t>
            </a:r>
            <a:r>
              <a:rPr b="0" lang="en-US" sz="2900" spc="-1" strike="noStrike">
                <a:solidFill>
                  <a:srgbClr val="ffffff"/>
                </a:solidFill>
                <a:latin typeface="Tw Cen MT"/>
              </a:rPr>
              <a:t>Plyler v. Doe</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ff"/>
                </a:solidFill>
                <a:latin typeface="Tw Cen MT"/>
              </a:rPr>
              <a:t>2001--- </a:t>
            </a:r>
            <a:r>
              <a:rPr b="0" lang="en-US" sz="2900" spc="-1" strike="noStrike">
                <a:solidFill>
                  <a:srgbClr val="ffffff"/>
                </a:solidFill>
                <a:latin typeface="Tw Cen MT"/>
              </a:rPr>
              <a:t>No Child Left Behind (NCLB)</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55" name="Picture 3" descr="bilingual education.jpg"/>
          <p:cNvPicPr/>
          <p:nvPr/>
        </p:nvPicPr>
        <p:blipFill>
          <a:blip r:embed="rId1"/>
          <a:stretch/>
        </p:blipFill>
        <p:spPr>
          <a:xfrm>
            <a:off x="6583320" y="4343400"/>
            <a:ext cx="172728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ivil Rights Act of 1964 (Title VI)</a:t>
            </a:r>
            <a:endParaRPr b="0" lang="en-US" sz="4400" spc="-1" strike="noStrike">
              <a:solidFill>
                <a:srgbClr val="ebddc3"/>
              </a:solidFill>
              <a:latin typeface="Tw Cen MT"/>
            </a:endParaRPr>
          </a:p>
        </p:txBody>
      </p:sp>
      <p:sp>
        <p:nvSpPr>
          <p:cNvPr id="357" name=""/>
          <p:cNvSpPr txBox="1"/>
          <p:nvPr/>
        </p:nvSpPr>
        <p:spPr>
          <a:xfrm>
            <a:off x="612720" y="1600200"/>
            <a:ext cx="7236000" cy="2819520"/>
          </a:xfrm>
          <a:prstGeom prst="rect">
            <a:avLst/>
          </a:prstGeom>
          <a:noFill/>
          <a:ln w="0">
            <a:noFill/>
          </a:ln>
        </p:spPr>
        <p:txBody>
          <a:bodyPr anchor="t">
            <a:normAutofit fontScale="84000"/>
          </a:bodyPr>
          <a:p>
            <a:pPr marL="267840" indent="-2678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ederal law requires programs that educate children with limited English proficiency to be: </a:t>
            </a:r>
            <a:endParaRPr b="0" lang="en-US" sz="29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ased on an educational theory</a:t>
            </a:r>
            <a:endParaRPr b="0" lang="en-US" sz="26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dequately supported, with adequate and effective staff and resources, so that the program has a realistic chance of success</a:t>
            </a:r>
            <a:endParaRPr b="0" lang="en-US" sz="2600" spc="-1" strike="noStrike">
              <a:solidFill>
                <a:srgbClr val="ffffff"/>
              </a:solidFill>
              <a:latin typeface="Tw Cen MT"/>
            </a:endParaRPr>
          </a:p>
          <a:p>
            <a:pPr lvl="1" marL="537120" indent="-2289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eriodically evaluated and, if necessary, revised</a:t>
            </a:r>
            <a:endParaRPr b="0" lang="en-US" sz="2600" spc="-1" strike="noStrike">
              <a:solidFill>
                <a:srgbClr val="ffffff"/>
              </a:solidFill>
              <a:latin typeface="Tw Cen MT"/>
            </a:endParaRPr>
          </a:p>
          <a:p>
            <a:pPr marL="267840" indent="-2678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358" name="Picture 3" descr="civil rights act.jpg"/>
          <p:cNvPicPr/>
          <p:nvPr/>
        </p:nvPicPr>
        <p:blipFill>
          <a:blip r:embed="rId1"/>
          <a:stretch/>
        </p:blipFill>
        <p:spPr>
          <a:xfrm>
            <a:off x="5791320" y="4724280"/>
            <a:ext cx="236196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bddc3"/>
                </a:solidFill>
                <a:latin typeface="Tw Cen MT"/>
              </a:rPr>
              <a:t>Bilingual Education Acts of 1968 and 1974 (Title VII)</a:t>
            </a:r>
            <a:br>
              <a:rPr sz="4000"/>
            </a:br>
            <a:endParaRPr b="0" lang="en-US" sz="3800" spc="-1" strike="noStrike">
              <a:solidFill>
                <a:srgbClr val="ebddc3"/>
              </a:solidFill>
              <a:latin typeface="Tw Cen MT"/>
            </a:endParaRPr>
          </a:p>
        </p:txBody>
      </p:sp>
      <p:sp>
        <p:nvSpPr>
          <p:cNvPr id="360" name=""/>
          <p:cNvSpPr txBox="1"/>
          <p:nvPr/>
        </p:nvSpPr>
        <p:spPr>
          <a:xfrm>
            <a:off x="304560" y="1828800"/>
            <a:ext cx="731196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Act was passed in 1968 and revised in 1974.</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Provided school districts with funding to provide educational programs for limited English proficient (LEP) speaking students.</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couraged multicultural awareness</a:t>
            </a:r>
            <a:endParaRPr b="0" lang="en-US" sz="2900" spc="-1" strike="noStrike">
              <a:solidFill>
                <a:srgbClr val="ffffff"/>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Gave school districts ability to provide bilingual education programs that were in violation of segregation laws</a:t>
            </a:r>
            <a:endParaRPr b="0" lang="en-US" sz="2900" spc="-1" strike="noStrike">
              <a:solidFill>
                <a:srgbClr val="ffffff"/>
              </a:solidFill>
              <a:latin typeface="Tw Cen MT"/>
            </a:endParaRPr>
          </a:p>
        </p:txBody>
      </p:sp>
      <p:pic>
        <p:nvPicPr>
          <p:cNvPr id="361" name="Picture 4" descr="bilingual cartoon.jpg"/>
          <p:cNvPicPr/>
          <p:nvPr/>
        </p:nvPicPr>
        <p:blipFill>
          <a:blip r:embed="rId1"/>
          <a:stretch/>
        </p:blipFill>
        <p:spPr>
          <a:xfrm>
            <a:off x="6248520" y="533520"/>
            <a:ext cx="2209680" cy="16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Lau v. Nichols </a:t>
            </a:r>
            <a:r>
              <a:rPr b="0" lang="en-US" sz="4400" spc="-1" strike="noStrike">
                <a:solidFill>
                  <a:srgbClr val="ebddc3"/>
                </a:solidFill>
                <a:latin typeface="Tw Cen MT"/>
              </a:rPr>
              <a:t>(1970)</a:t>
            </a:r>
            <a:endParaRPr b="0" lang="en-US" sz="4400" spc="-1" strike="noStrike">
              <a:solidFill>
                <a:srgbClr val="ebddc3"/>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Ruling ensured that limited-English proficient (LEP) students had opportunities to participate in district educational programs</a:t>
            </a:r>
            <a:endParaRPr b="0" lang="en-US" sz="2900" spc="-1" strike="noStrike">
              <a:solidFill>
                <a:srgbClr val="ffffff"/>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Ensured that resources would be provided for students with language deficiencies to overcome their deficiencies</a:t>
            </a:r>
            <a:endParaRPr b="0" lang="en-US" sz="2900" spc="-1" strike="noStrike">
              <a:solidFill>
                <a:srgbClr val="ffffff"/>
              </a:solidFill>
              <a:latin typeface="Tw Cen MT"/>
            </a:endParaRPr>
          </a:p>
          <a:p>
            <a:pPr lvl="1" marL="620280" indent="-30924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w Cen MT"/>
              </a:rPr>
              <a:t>"Basic English Skills are at the very core of what…public schools teach. Imposition of a requirement that, before a child can effectively participate in the educational program, he must already have acquired those basic skills, is to make a mockery of public education."</a:t>
            </a:r>
            <a:br>
              <a:rPr sz="2600"/>
            </a:br>
            <a:r>
              <a:rPr b="1" lang="en-US" sz="1700" spc="-1" strike="noStrike">
                <a:solidFill>
                  <a:srgbClr val="ffff00"/>
                </a:solidFill>
                <a:latin typeface="Tw Cen MT"/>
              </a:rPr>
              <a:t>-- U. S. Supreme Court, 1974, </a:t>
            </a:r>
            <a:r>
              <a:rPr b="1" lang="en-US" sz="1700" spc="-1" strike="noStrike" u="sng">
                <a:solidFill>
                  <a:srgbClr val="ffff00"/>
                </a:solidFill>
                <a:uFillTx/>
                <a:latin typeface="Tw Cen MT"/>
              </a:rPr>
              <a:t>Lau vs. Nichols</a:t>
            </a:r>
            <a:endParaRPr b="0" lang="en-US" sz="1700" spc="-1" strike="noStrike">
              <a:solidFill>
                <a:srgbClr val="ffffff"/>
              </a:solidFill>
              <a:latin typeface="Tw Cen MT"/>
            </a:endParaRPr>
          </a:p>
        </p:txBody>
      </p:sp>
      <p:pic>
        <p:nvPicPr>
          <p:cNvPr id="364" name="Picture 3" descr="lua v nichols.jpg"/>
          <p:cNvPicPr/>
          <p:nvPr/>
        </p:nvPicPr>
        <p:blipFill>
          <a:blip r:embed="rId1"/>
          <a:stretch/>
        </p:blipFill>
        <p:spPr>
          <a:xfrm>
            <a:off x="6324480" y="250920"/>
            <a:ext cx="1447920" cy="173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Lau Remedies (1975)</a:t>
            </a:r>
            <a:endParaRPr b="0" lang="en-US" sz="4400" spc="-1" strike="noStrike">
              <a:solidFill>
                <a:srgbClr val="ebddc3"/>
              </a:solidFill>
              <a:latin typeface="Tw Cen MT"/>
            </a:endParaRPr>
          </a:p>
        </p:txBody>
      </p:sp>
      <p:sp>
        <p:nvSpPr>
          <p:cNvPr id="366"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y </a:t>
            </a:r>
            <a:r>
              <a:rPr b="0" lang="en-US" sz="2900" spc="-1" strike="noStrike">
                <a:solidFill>
                  <a:srgbClr val="ff33cc"/>
                </a:solidFill>
                <a:latin typeface="Tw Cen MT"/>
              </a:rPr>
              <a:t>specified</a:t>
            </a:r>
            <a:r>
              <a:rPr b="0" lang="en-US" sz="2900" spc="-1" strike="noStrike">
                <a:solidFill>
                  <a:srgbClr val="ffffff"/>
                </a:solidFill>
                <a:latin typeface="Tw Cen MT"/>
              </a:rPr>
              <a:t> approved approaches, methods, and procedures for:</a:t>
            </a:r>
            <a:endParaRPr b="0" lang="en-US" sz="29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identifying and evaluating national origin minority students’ English language skill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etermining, appropriate instructional treatment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deciding when LEP children were ready for mainstream classrooms;</a:t>
            </a:r>
            <a:endParaRPr b="0" lang="en-US" sz="2600" spc="-1" strike="noStrike">
              <a:solidFill>
                <a:srgbClr val="ffffff"/>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t>
            </a:r>
            <a:r>
              <a:rPr b="0" lang="en-US" sz="2600" spc="-1" strike="noStrike">
                <a:solidFill>
                  <a:srgbClr val="ffffff"/>
                </a:solidFill>
                <a:latin typeface="Tw Cen MT"/>
              </a:rPr>
              <a:t>determining the professional standards to be met by teachers of language minority children.”</a:t>
            </a:r>
            <a:endParaRPr b="0" lang="en-US" sz="2600" spc="-1" strike="noStrike">
              <a:solidFill>
                <a:srgbClr val="ffffff"/>
              </a:solidFill>
              <a:latin typeface="Tw Cen MT"/>
            </a:endParaRPr>
          </a:p>
          <a:p>
            <a:pPr lvl="1" marL="594720" indent="-253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aker, 1983)</a:t>
            </a:r>
            <a:endParaRPr b="0" lang="en-US" sz="2600" spc="-1" strike="noStrike">
              <a:solidFill>
                <a:srgbClr val="ffffff"/>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Plyler v. Doe </a:t>
            </a:r>
            <a:r>
              <a:rPr b="0" lang="en-US" sz="4400" spc="-1" strike="noStrike">
                <a:solidFill>
                  <a:srgbClr val="ebddc3"/>
                </a:solidFill>
                <a:latin typeface="Tw Cen MT"/>
              </a:rPr>
              <a:t>(1982)</a:t>
            </a:r>
            <a:endParaRPr b="0" lang="en-US" sz="4400" spc="-1" strike="noStrike">
              <a:solidFill>
                <a:srgbClr val="ebddc3"/>
              </a:solidFill>
              <a:latin typeface="Tw Cen MT"/>
            </a:endParaRPr>
          </a:p>
        </p:txBody>
      </p:sp>
      <p:sp>
        <p:nvSpPr>
          <p:cNvPr id="368" name=""/>
          <p:cNvSpPr txBox="1"/>
          <p:nvPr/>
        </p:nvSpPr>
        <p:spPr>
          <a:xfrm>
            <a:off x="612360" y="1600200"/>
            <a:ext cx="6854760" cy="449568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s law was enacted in response to a 1975 education law in Texas that denied state education funds to illegal aliens.</a:t>
            </a:r>
            <a:endParaRPr b="0" lang="en-US" sz="2900" spc="-1" strike="noStrike">
              <a:solidFill>
                <a:srgbClr val="ffffff"/>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 Texas law was in violation of Equal Protection Clause of the Fourteenth Amendment. </a:t>
            </a:r>
            <a:endParaRPr b="0" lang="en-US" sz="2900" spc="-1" strike="noStrike">
              <a:solidFill>
                <a:srgbClr val="ffffff"/>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e Fourteenth Amendment states:</a:t>
            </a:r>
            <a:endParaRPr b="0" lang="en-US" sz="2900" spc="-1" strike="noStrike">
              <a:solidFill>
                <a:srgbClr val="ffffff"/>
              </a:solidFill>
              <a:latin typeface="Tw Cen MT"/>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w Cen MT"/>
              </a:rPr>
              <a:t>“</a:t>
            </a:r>
            <a:r>
              <a:rPr b="0" lang="en-US" sz="2000" spc="-1" strike="noStrike">
                <a:solidFill>
                  <a:srgbClr val="ffff00"/>
                </a:solidFill>
                <a:latin typeface="Tw Cen MT"/>
              </a:rPr>
              <a:t>[n]o State shall . . . deprive any person of life, liberty, or property, without due process of law; nor deny to </a:t>
            </a:r>
            <a:r>
              <a:rPr b="0" i="1" lang="en-US" sz="2000" spc="-1" strike="noStrike">
                <a:solidFill>
                  <a:srgbClr val="ffff00"/>
                </a:solidFill>
                <a:latin typeface="Tw Cen MT"/>
              </a:rPr>
              <a:t>any person within its jurisdiction</a:t>
            </a:r>
            <a:r>
              <a:rPr b="0" lang="en-US" sz="2000" spc="-1" strike="noStrike">
                <a:solidFill>
                  <a:srgbClr val="ffff00"/>
                </a:solidFill>
                <a:latin typeface="Tw Cen MT"/>
              </a:rPr>
              <a:t> the equal protection of the laws.”</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dc3"/>
                </a:solidFill>
                <a:latin typeface="Tw Cen MT"/>
              </a:rPr>
              <a:t>Plyler v. Doe</a:t>
            </a:r>
            <a:endParaRPr b="0" lang="en-US" sz="4400" spc="-1" strike="noStrike">
              <a:solidFill>
                <a:srgbClr val="ebddc3"/>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cc"/>
                </a:solidFill>
                <a:latin typeface="Tw Cen MT"/>
              </a:rPr>
              <a:t>RULING</a:t>
            </a:r>
            <a:r>
              <a:rPr b="0" lang="en-US" sz="2900" spc="-1" strike="noStrike">
                <a:solidFill>
                  <a:srgbClr val="ffffff"/>
                </a:solidFill>
                <a:latin typeface="Tw Cen MT"/>
              </a:rPr>
              <a:t>:</a:t>
            </a:r>
            <a:endParaRPr b="0" lang="en-US" sz="2900" spc="-1" strike="noStrike">
              <a:solidFill>
                <a:srgbClr val="ffffff"/>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Public schools are prohibited from enacting policies or taking actions that would deny students access to education based on their immigration status.</a:t>
            </a:r>
            <a:endParaRPr b="0" lang="en-US" sz="2600" spc="-1" strike="noStrike">
              <a:solidFill>
                <a:srgbClr val="ffffff"/>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chool officials may not require children to prove they are in this country legally by asking for documents such as green cards, citizenship papers, etc. They may only require proof that the child lives within the school district attendance zone, just as they might for any other child.</a:t>
            </a:r>
            <a:endParaRPr b="0" lang="en-US" sz="2600" spc="-1" strike="noStrike">
              <a:solidFill>
                <a:srgbClr val="ffffff"/>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Equal Educational Opportunities Act (EEOA)</a:t>
            </a:r>
            <a:endParaRPr b="0" lang="en-US" sz="4000" spc="-1" strike="noStrike">
              <a:solidFill>
                <a:srgbClr val="ebddc3"/>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s Act was designed to require school districts to establish language programs to eliminate language barriers in schools.</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provides that no state shall deny equal educational opportunity on the basis of race, color, sex, or national origin. </a:t>
            </a:r>
            <a:r>
              <a:rPr b="0" lang="en-US" sz="2900" spc="-1" strike="noStrike">
                <a:solidFill>
                  <a:srgbClr val="ffffff"/>
                </a:solidFill>
                <a:latin typeface="Tw Cen MT"/>
              </a:rPr>
              <a:t>	</a:t>
            </a:r>
            <a:endParaRPr b="0" lang="en-US" sz="2900" spc="-1" strike="noStrike">
              <a:solidFill>
                <a:srgbClr val="ffffff"/>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pic>
        <p:nvPicPr>
          <p:cNvPr id="373" name="Picture 3" descr="equal education.jpg"/>
          <p:cNvPicPr/>
          <p:nvPr/>
        </p:nvPicPr>
        <p:blipFill>
          <a:blip r:embed="rId1"/>
          <a:stretch/>
        </p:blipFill>
        <p:spPr>
          <a:xfrm>
            <a:off x="5334120" y="4114800"/>
            <a:ext cx="2514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1:02:56Z</dcterms:created>
  <dc:creator>IELTS</dc:creator>
  <dc:description/>
  <dc:language>en-US</dc:language>
  <cp:lastModifiedBy>dAivA</cp:lastModifiedBy>
  <dcterms:modified xsi:type="dcterms:W3CDTF">2010-05-20T02:28:35Z</dcterms:modified>
  <cp:revision>45</cp:revision>
  <dc:subject/>
  <dc:title>ESL LEgistlation</dc:title>
</cp:coreProperties>
</file>